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32672-6DF7-442A-9939-1F0909B5C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65FD-BABB-4063-83FF-EA7024D0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91381-0BE5-484D-8B68-11EF6FF58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F4D90-5F48-4A0B-B053-89E9D5516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1AD34-5775-4AC3-BAEA-BA2024886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58FE0-F75C-44E3-9490-13EFD6A52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98758-030E-475F-A15A-D7C1B6A70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2921B-7177-4B26-80FA-8BAFA4950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32756-AA61-4D16-90CB-673F5EA6C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0DC8C-0FA9-4ED7-BBBE-C94CA784F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A31A7-EAF2-4DA6-A610-316237724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4A9D-E8F9-428F-9DEF-1A8E3539E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7860F-DE81-42C4-B1D4-829FDE779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077E9-AB24-4E30-9CF9-CB6D80EE9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4CCB8-9DB6-4269-B730-8B496421F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13063-30C9-4574-AAC2-9F7AB75BF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618EA-F456-4009-85A0-206ADDDC0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74109-93FE-46D5-BAEC-76ED3233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50CF5-7D78-4E4E-AC81-0F4CE08CF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1EB08-2CEB-4AF6-89CC-ED19315E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F8A9-9CEE-4326-A6E8-4C555D6BB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3F30-B9D3-40D7-9DA3-25AB9E12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4340E-A64D-46A1-903F-FDF496F0E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F4A7F-EFE2-45B1-9229-4415ACB38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1B20-4991-4058-BC75-4EBEC44F1A7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D374-F3F8-4E93-88DB-7B494EF36DE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1066320"/>
            <a:ext cx="7620120" cy="2057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reative Thinking</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600200" y="41907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mes/Excercis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1"/>
                                        </p:tgtEl>
                                        <p:attrNameLst>
                                          <p:attrName>style.visibility</p:attrName>
                                        </p:attrNameLst>
                                      </p:cBhvr>
                                      <p:to>
                                        <p:strVal val="visible"/>
                                      </p:to>
                                    </p:set>
                                    <p:animEffect filter="fade" transition="in">
                                      <p:cBhvr additive="repl">
                                        <p:cTn id="7" dur="20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2"/>
                                        </p:tgtEl>
                                        <p:attrNameLst>
                                          <p:attrName>style.visibility</p:attrName>
                                        </p:attrNameLst>
                                      </p:cBhvr>
                                      <p:to>
                                        <p:strVal val="visible"/>
                                      </p:to>
                                    </p:set>
                                    <p:animEffect filter="fade" transition="in">
                                      <p:cBhvr additive="repl">
                                        <p:cTn id="12" dur="2000"/>
                                        <p:tgtEl>
                                          <p:spTgt spid="1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7"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rt</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More than meets the eye”</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55" name="" descr=""/>
          <p:cNvPicPr/>
          <p:nvPr/>
        </p:nvPicPr>
        <p:blipFill>
          <a:blip r:embed="rId1"/>
          <a:stretch/>
        </p:blipFill>
        <p:spPr>
          <a:xfrm>
            <a:off x="3429000" y="2514600"/>
            <a:ext cx="2286000" cy="259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se or two human profiles?</a:t>
            </a: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additional items visibl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 An anvil. 2. An overpass pillar on a highway. 3. Champagne glass. 4. Piano stool. 5. Tower with revolving restaurant. 6. Minute-timer. 7. Propeller. 8. Chess-game rook or castle. 9. Fruit holder. 10. Bird bath. 11. Chalice. 12. Rubber grommet. 13. Keyhole slot in door. 14. An extrusion die. 15. Two Pontiac automobiles about to crash head on. 16. A screw jack. 17. An arrowhead going into an object. 18. Two girls sitting back-to-back and holding parcels on their heads.</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rainstorming History</a:t>
            </a:r>
            <a:br>
              <a:rPr sz="4400"/>
            </a:br>
            <a:endParaRPr b="0" lang="en-US" sz="4400" spc="-1" strike="noStrike">
              <a:solidFill>
                <a:srgbClr val="000000"/>
              </a:solidFill>
              <a:latin typeface="Comic Sans MS"/>
            </a:endParaRPr>
          </a:p>
        </p:txBody>
      </p:sp>
      <p:sp>
        <p:nvSpPr>
          <p:cNvPr id="159" name="PlaceHolder 2"/>
          <p:cNvSpPr>
            <a:spLocks noGrp="1"/>
          </p:cNvSpPr>
          <p:nvPr>
            <p:ph/>
          </p:nvPr>
        </p:nvSpPr>
        <p:spPr>
          <a:xfrm>
            <a:off x="380520" y="1295280"/>
            <a:ext cx="7696440" cy="36576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e the students into groups of 3</a:t>
            </a:r>
            <a:endParaRPr b="0" lang="en-US" sz="24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 problem that everyone is familiar with, ex. how to reduce the number of homeless people?</a:t>
            </a:r>
            <a:endParaRPr b="0" lang="en-US" sz="24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 students a figure from history, fiction, or current events, such as Martin Luther King Jr, Ninja Turtles, Barbara Walters</a:t>
            </a:r>
            <a:endParaRPr b="0" lang="en-US" sz="2400" spc="-1" strike="noStrike">
              <a:solidFill>
                <a:srgbClr val="000000"/>
              </a:solidFill>
              <a:latin typeface="Comic Sans MS"/>
            </a:endParaRPr>
          </a:p>
          <a:p>
            <a:pPr marL="325800" indent="-325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the students determine how those people would solve the problem, considering their expertise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0" name="" descr=""/>
          <p:cNvPicPr/>
          <p:nvPr/>
        </p:nvPicPr>
        <p:blipFill>
          <a:blip r:embed="rId1"/>
          <a:stretch/>
        </p:blipFill>
        <p:spPr>
          <a:xfrm>
            <a:off x="5715000" y="4419720"/>
            <a:ext cx="2514600" cy="2334960"/>
          </a:xfrm>
          <a:prstGeom prst="rect">
            <a:avLst/>
          </a:prstGeom>
          <a:ln w="0">
            <a:noFill/>
          </a:ln>
        </p:spPr>
      </p:pic>
      <p:pic>
        <p:nvPicPr>
          <p:cNvPr id="161" name="" descr=""/>
          <p:cNvPicPr/>
          <p:nvPr/>
        </p:nvPicPr>
        <p:blipFill>
          <a:blip r:embed="rId2"/>
          <a:stretch/>
        </p:blipFill>
        <p:spPr>
          <a:xfrm>
            <a:off x="2438280" y="4572000"/>
            <a:ext cx="152100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rcle Storie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children a worksheet with circle shapes. Ask them to add as many different details to each circle as possible, ex. face, sun, watch, cobweb</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pairs, ask children to compare their drawing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rcle story continued…</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ask the kids to choose and cut out six of their circle drawings. Ask them to make as many connections as they can between these circles, ex. “the face is smiling because the watch says it’s lunchtime……”</a:t>
            </a:r>
            <a:endParaRPr b="0" lang="en-US" sz="3200" spc="-1" strike="noStrike">
              <a:solidFill>
                <a:srgbClr val="000000"/>
              </a:solidFill>
              <a:latin typeface="Comic Sans MS"/>
            </a:endParaRPr>
          </a:p>
        </p:txBody>
      </p:sp>
      <p:pic>
        <p:nvPicPr>
          <p:cNvPr id="166" name="" descr=""/>
          <p:cNvPicPr/>
          <p:nvPr/>
        </p:nvPicPr>
        <p:blipFill>
          <a:blip r:embed="rId1"/>
          <a:stretch/>
        </p:blipFill>
        <p:spPr>
          <a:xfrm>
            <a:off x="6553080" y="4419720"/>
            <a:ext cx="2114640" cy="21621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8">
                                  <p:stCondLst>
                                    <p:cond delay="0"/>
                                  </p:stCondLst>
                                  <p:childTnLst>
                                    <p:animRot by="21600000">
                                      <p:cBhvr>
                                        <p:cTn id="23" dur="2000" fill="hold"/>
                                        <p:tgtEl>
                                          <p:spTgt spid="1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ircle story continued…</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the children in pairs will create stories incorporating their circle drawing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they draft stories they can add more details and use circle drawings as illustration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the kids will present their stories which will be discussed with the clas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rce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glencoe.com/sec/busadmin/entre/teacher/creative/index.htm</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9" name="" descr=""/>
          <p:cNvPicPr/>
          <p:nvPr/>
        </p:nvPicPr>
        <p:blipFill>
          <a:blip r:embed="rId1"/>
          <a:stretch/>
        </p:blipFill>
        <p:spPr>
          <a:xfrm>
            <a:off x="3962520" y="5181480"/>
            <a:ext cx="2209680" cy="14763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2000" fill="hold"/>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4:16:21Z</dcterms:created>
  <dc:creator>Owner</dc:creator>
  <dc:description/>
  <dc:language>en-US</dc:language>
  <cp:lastModifiedBy>Owner</cp:lastModifiedBy>
  <dcterms:modified xsi:type="dcterms:W3CDTF">2011-10-19T19:31:31Z</dcterms:modified>
  <cp:revision>5</cp:revision>
  <dc:subject/>
  <dc:title>Creative Thinking</dc:title>
</cp:coreProperties>
</file>